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0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7.xml.rels" ContentType="application/vnd.openxmlformats-package.relationships+xml"/>
  <Override PartName="/ppt/notesSlides/notesSlide8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CB57-7881-479E-81B5-D3EB08026E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Not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first step in a successful response to PEGASYS therapy is achieving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ustained immune contro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n the case of HBeAg-positive disease this is HBeAg seroconversion. For HBeAg-negative disease this is suppression of HBV DNA to below 10,000 copies/mL (2,000 IU/mL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atients who achieve sustained immune control have a high chance of going on to clear hepatitis B surface antigen (HBs), considered the closest outcome to cure in CHB, during long-term follow up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094C-43F1-4726-BFB2-DDA5C7E878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Not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first step in a successful response to PEGASYS therapy is achieving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ustained immune contro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n the case of HBeAg-positive disease this is HBeAg seroconversion. For HBeAg-negative disease this is suppression of HBV DNA to below 10,000 copies/mL (2,000 IU/mL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atients who achieve sustained immune control have a high chance of going on to clear hepatitis B surface antigen (HBs), considered the closest outcome to cure in CHB, during long-term follow up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E3CC-4A1D-4555-BE2E-F91E540DA9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2652-56FA-454D-9A5B-26D1D26ADA2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1C0-F1EC-40CC-A737-93F7A17B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F7A4-015C-42B2-B250-631593D2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108-F25B-4DDC-835C-C1A1D8B5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C55-4B30-47F6-920E-299C65F7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285B-7677-4C34-8D23-C2509B4C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573C-6EB9-4F77-BDE2-734F778B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B665-D72C-4533-92C3-382613E5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F7E8-7B1C-4EA0-9903-1C81CD36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B8FA-0CC9-401F-87E8-5C828F66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5959-7A12-4121-9F67-2827A494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73DE-EC8C-4A1E-9542-7E607A55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C05-9564-4DAD-81A7-326AD4B5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E715-8198-44F4-BE5C-8CE717E9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B66C-017D-4486-8199-257340A4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BBE5-AF91-4204-83B5-A1B71679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901D-7A7A-4585-87FE-EE89E9B2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35A7-FA23-466E-B957-0BDDF709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4EA-343C-405C-862B-581399F1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4D9-739A-4A39-99B1-D1076E2B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DFD-A438-4801-9218-C0F8C85A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21B-3039-46AA-A726-EDEED8B4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AAF-405E-44F4-A486-0B736A96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568-C5F8-49AC-B6B3-9D185201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DDD-6E06-4228-AED3-BA9DDFE7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1A07-31F8-4D06-875D-81377D1EE76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D6A3-BA12-405A-BB91-773789D8E5B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АКУТНИ ВИРУСНИ ХЕПАТИТИ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Проф. Др Жељко Мијаилови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утације у 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pre-core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рег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 секреци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аријанта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D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тиван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егативан,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а боле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тације у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г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ба рођена од мајке носиоц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поста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, упркос спроведеној вакцина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тације у гену з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имераз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стенција на антивирусни терапију (ламивуд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Д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ефектан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ахтева помоћну функциј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за своју експресију, патогенезу и реплика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ал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R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партикула, обмотана липопротеинским омотачем хепатитис Б вирус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s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згр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антиген ковалентно везан 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дноланчану, циркуларн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DV RN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интез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може да супримира или прекине репликациј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1 серотип, 3 геноти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скључиво хепатотропан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Ц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: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Flavi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згро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CV R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core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проте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мотач (Е1 и Е2 гликопроте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ено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кодирајуће регије са оба краја (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`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`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-стабилни делови ген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и који кодирају синтезу гликопротеина омотач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1, Е2/NS1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-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перваријабилна ре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2, NS3, NS4, NS5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кодирају синтезу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труктурних протеина (имају улогу ензима-протеазе, хеликазе, полимеразе)→мање про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6 генотипова, око 90 подтипова и више стотина квазисој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Г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дноланчан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RN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: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Flavi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извесно је дали 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G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хепатотропни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 изазива фулминантни хепатитис и хроничну болест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G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 изгледа, није значајни патогени агенс за ч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ТТ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дноланчан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 без омотач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: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Cirko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носи се трасфузијама крви (трансфусион-трансмиттед вирус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TТ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сока учесталост носилаштв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TТ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здравих особа-није значајан узрочник обољења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15-50 дана (3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вор инфек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олестан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 се излучује столицом у другој половини инкубације и прве две недељ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тежим облицима хепатитиса А→излучивање масивније и дуготрајније (мада је  оно доказано и у супклиничким формама боле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ор инфекције могу бити и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јмун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шимпанза, мармозет, афрички зелени мајмун) као и неке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ољк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стриг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утеви 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Фекално-орални пу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једини пут ширења инфек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Директни контакт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Болес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љавих рук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Преноше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њ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 лакше и чешће у деце, ментално-ретардираних особа као и особа са неразвијеним хигијенским навик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Сиромаштво, лоши санитарно-хигијенски услови становања, ратови и елементарне непогоде олакшавају ширењ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A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Контаминиран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Мешање воде за пиће са фекалиј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дричне епидемије (експлозивни каракт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аминирана х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лиментарне епидемије (студенске мензе, школске и војничке кухи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Храна која се термички н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ђује или се припрема после термичке обраде (салате, сендвичи, воће, кремов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акође експлозивног каракт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Неразвијене и земље у разво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 хиперендемич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Инфекција→у раном детињству, у другој деценији живота преко 90% популације има антиХА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езонска кривуља обољевања→врх у позну јесен, најниже вредности у лето (само код контактног начина преношењ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Развијене зем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о инфекције долази касн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окуженост у другој и трећој деценији→1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90360" y="-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15-60 дана (4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екално-орал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порадично, епидемијски,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ендемич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вор инфек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олесник са хепатитисом 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учивање вируса столицом→крај инкубације и акутна фаз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 преношењ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минирана вода (главни пут преношењ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е хидричне епидемије за време великих киша у тропским и суптропским крајевима Азије и Афр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минирана х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е директним контактом је ретко (мала количина вируса у столиц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ћа вертикална трансмисија→нарочито ако се мајка зарази у трећем триместру трудно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30-160 дана (60-9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валенц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нашој земљи 2-7%, у Африци и Далеком Истоку 10-1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соко носилаштво у изолованим популацијам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45% код Ескима, 85% код Абориџина у Аустрал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Високо ендемични крајев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-90% становништва има серолошке маркере прележане или актуелн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% или више хронични носиоци 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 се најчешће добија на рођењу или у раном детињст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 развој хрониц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159984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Акутна инфламација и некроза јетриног паренхима узрокован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 примарно хепатотропним вирусима (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, H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, H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, H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, HEV, H</a:t>
            </a: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, TT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Умерено ендемична подруч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валенца 20-5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на инфекција у 2-7% случај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аступљена у свим групама, разни путеви 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већа учесталост међу адолесцентима и млађим одраслим особ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Подручја са ниским нивоом ендемичност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валенца мања од 2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на инфекција у мање од 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чешћа код одраслих и у ризичним групама (хемофиличари, болесници на хемодијализи, интравенски наркомани, промискуитетне особе, здравствени радниц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вор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Човек који болује од акутног или хроничног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заразниј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када има маркере вирусне репликације у серуму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DNK, HBV D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мераза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cIg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пре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антиген) и јетри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cAg, HBV 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убација, продромални период, почетак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теричног периода, репликативна фаз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 Б се јавља спорадично, ендемично и у виду мањих епид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а сезонских вариј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утеви 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мисиј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путем изложености крв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ли другим инфицираним течностим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травенска наркоман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модијали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фузиј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плантације ткива и орга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етовирањ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пункту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ируршке, стоматолошке, ендоскопске интервен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мисија контактом са инфицираном особом (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оризонтална трансмис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-високо ендемични крајев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љуба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ришћење заједничког прибора за зубе, шишање, бриј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мисиј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сексуалним контак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нсмисија од мајке на дете на рођењу (перинатално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-вертикална трансмис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соко ендемична подруч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току порођаја (најчешћ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ни постнатални период (блиски контак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траутерино (путем умбиликалне вене)-рет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ајка носилац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eA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зик за дете 70-9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цитет се развија у 90%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а носилац 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ризик за дете 10-1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цитет се развија у 40-7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шењ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м млека у току дојења није доказано (иако с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BV DNK o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ривени у мајчином мле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ицинско особље обољева 3-4 пута чешће од становништва опште попул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рорални пут је могућ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његова ефикасност прилично сла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53352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4-7 неде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свету око 15.000.000 хроничних носилаца ХД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амо у особа с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Коинфек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истовремена појава акутног хепатитиса Б и акутног хепатитиса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перинфек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акутн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а у хроничних носилац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демични крајев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Медитеран, Средњи Исток, делови Африке, басен Амазо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а међу болесницима са хепатитисом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си се блиским контактом са инфицираном особ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чно се ради о суперинфек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Неендемични крајев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САД, С. Европ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 присутна у ризичним групама (интравенски наркомани, хемофиличари, примаоци трансфузија крви, болесници на хемодијали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а земља не спада у ендемична подручија (ризичне груп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ор инфекције→болесник са акутном или хроничном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 преношења→као к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-360"/>
            <a:ext cx="754380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: 5-12 недеља (7-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вор инфек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човек са акутном или хроничном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о вироноштво настаје у више од 80% болесника са акутном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o 50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000.000 хроничних носилаца вируса у 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 преношењ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равенска наркоман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дијализ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фузије крви и деривата к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суална трансмисија (2-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тикална трансмис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плантације органа и тк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вазивне дијагностичке и терапијске процеду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Честа у интравенских наркомана, хемофиличара, хемодијализних болесника, болесника који су примили већи број трансфузија крви ил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дерив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си се парентералним пу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натална инфекција могућа→али рет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зистентна инфекција честа→али се не зна да ли доводи до хроничне инфекције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је да се види да ли 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G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“невин посматрач” или озбиљан патогени агенс за ч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патитис Т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 значај још није утврђ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ПАТОАНАТОМСКЕ ПРОМЕН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. Знаци ткивног оштећ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егенерација хепат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цидофилна дегенер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межуравање хепат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већана еозинофилност цитоплаз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икноза јед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цидофилна телашца (изумрли хепатоци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Балонска дегенер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колико пута увећани хепатоц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Цитоплазма у целини разређ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дро увећано и дегенерис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Е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ТИОЛОГ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ВИРУСИ КОЈИ СЕ ПРЕНОСИ ФЕКАЛНО-OРАЛНИМ ПУТЕМ (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HAV, HEV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ЗАЈЕДНИЧКЕ КАРАКТЕРИСТИК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мају омота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стају интактни када се подвргну дејству жу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лучују се столиц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 дају хронично вироноштво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 изазивају хроничне болести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Церо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мосидер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олест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. Знаци ткивне реа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генер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илтрација запаљенским ћелиј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множавање и хиперплазија Купферових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лиферација жучних канали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р ос уно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псорпција из дигестивног трак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кула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ије→оштећење јетре због директног цитопатогеног дело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с→ћелијски имунски механизми одговорни за оштећење хепат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е две недеље→појачана активност Т лимфоцита 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ћелија у периферној 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на продукција ендогеног интерферона него у хепатитису Б и Ц→могући разлог изостанка хрониц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ош увек неразјашњ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вероватније да вирус није цитопатоген, тј. у патогенези посредује имунски сис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елимично поз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злоз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граничено број врста које вирус може инфицир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могућност размножавања вируса у ин витро условима (у култур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БВ није директно цитопатоген за инфицирани хепато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штећење хепатоцита у хепатитису 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тат њиховог имунски посредованог оштећењ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мунски одговор на антигене вирус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лиминација вируса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атогенез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уморал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трализација и уклањање циркулишућих вирусних партику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улар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иминација инфицираних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патогенези хепатитиса Б кључну улогу има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улар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Целулар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тотоксични Т лимфоцит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главна улога у искорењивањ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знају вирусне пептиде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, HBcAg)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оване путем молекула клас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H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ци са самоограничавајућим акутним хепатитисом Б→снажан, поликлонски на клас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HLA усмерен CTL одговор на мноштво епитопа oмoтача, нуклеoкапсида и пoлимерa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ци са самоограничавајући акутним хепатитисом 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снажан поликлонск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</a:t>
            </a:r>
            <a:r>
              <a:rPr b="1" lang="sr-Latn-C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, T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лпер ћелијски одговор на епитопе нуклеокапсид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cAg, HBeA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уморални имунс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утралишућа антитела (анти-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Bs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мерена на епитопе омотача вирус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на и за настанак екстрахепатичких манифес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а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V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слаб, субоптималан одговор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L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Т хелпер лимфоцита на циљне антигена презентоване од стране молекула клас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I H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елује највероватније директно цитопатоген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довољно познати патогенетски механиз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анас преовладава мишљење да ХЦВ изазива оштећење хепатоцита посредством имунског сист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 то указује хистолош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запаљенском инфилтрату доминирај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L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лизирају инфициране хепатоци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анатомс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тно- или крупнокапљичаста масна промена хепат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ноженост жучних канали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ни агрегати у портним простор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довољно информација о патогенези и патоанатомским променам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КЛИНИЧКА СЛ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ви акутни вирусни хепатитиси могу имати сличну клиничку слику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А је обично лакша болест 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једне трећине инфицираних ХАВ-ом долази до сероконверзије (постају анти-ХАВ позитивни), без клиничких и лабораторијских знакова запаљења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тни хепатитис Ц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лажа клиничка слика од акутног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 сличан серумској болести→чешће удружен са хепатитисом Б и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Типичан иктерични облик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. Продромални (преиктерични) стадију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 код акутног хепатитиса А и Е почиње нагло, код осталих постепе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и слични грипу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кијавица, фарингитис, кашаљ, мијалгије, главобоља, малаксалост, ретко повишена температура) и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строинтестинални симптом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мука, гађење, повраћање, губитак апетита, пролив или затвор, осећај нелагодности или болови под ДР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чешћи симптом (у 95%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аксал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и се јавља а последњи ишчеза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ђењ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арочито на масну х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ишена температур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чешћа у хепатитису А и Е (осим код облика хепатитиса Б праћених тегобама сличним серумској боле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 сличан серумској болест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спа, артралгије, артритис, повишена температу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10% болесника са хепатитисом Б (ретко код других хепатити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кстрахепатичке манифеста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могу и у другој половини инкуба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алгије, ретко артритис, оспа, увећане лг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TIС А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R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icorna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ерична честица, линеарни једноланчани геном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РН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стент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јство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иселине и 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мпературу до 60</a:t>
            </a:r>
            <a:r>
              <a:rPr b="1" lang="sr-C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ативна отпорност на методе дезинфекције→опр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љив на деловање формалина, хлора и УВ зрач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серотип, 4 геноти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д дец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пуларни акродерматитис (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ianotti-Crosti sindro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иктерични стадијум траје 3-10 дана, најдуже до 3 неде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ају овог стадијума болесник примећује да му је мокраћа тамна а столица светлије бо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. Иктерични стадију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иње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ктерусом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жутицом)→најпре на беоњачама и тврдом неп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 се субјективно осећа боље, тегобе из преиктеричне фазе се смањују и ишчезав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 да се јаве незнатни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ови у пределу јетр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ао и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раб по кож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60912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омегал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80%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тра је меке конзистенције, глатка и лако болно осетљива на палпа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Спленомегал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20%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Цервикална лимфаденопат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ретк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 почетку иктеричног стадијума (7-10 дана) иктерус прогредира а болесници се добро осећ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“више жути него болесни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стадијум траје 1-4 недеље од почетка икте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лизују се боја мокраће и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Ц. Стадијум реконвалесц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ви симптоми ишчезавају, сем умора (може трајати недеља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амо перзистирају патолошки биохемијски тесто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ва фаза је краћа код хепатитиса А него код хепатитиса Б и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мплетно клиничко и биохемијско оздрављење настаје за 1-2 месеца код хепатитиса А и Е, а 2-3 месеца (ретко до 6 месеци) к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типични облици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Супклинички (асимптоматски)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ез симптома болести са уредним физичким налаз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ијагноз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овишене трансаминазе и присуство маркера вируса хепатитиса у серу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клинички облик чешћи код деце (хепатитис А и 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клинички облик краће тра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хепатитиса Ц чешћи него к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7543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Аниктерични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егобе из преиктеричног стадијума слабијег интезитета и краће тр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ма икте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Чест код хепатитиса Ц (75-90%) и код деце са хепатитисом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Холестазни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дак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чешћи код хепатитиса А код одраслих 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ктерус расте, праћен сврабом ко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к се све време осећа доб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изички преглед: блага хепатомегалија и икте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ок болести продужен (3-8 месец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тоји пад трансаминаза у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рзистенцију хипербилирубинем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гноза добра, опоравак потпу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320" y="609120"/>
            <a:ext cx="7543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Продужен т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аје дуже од 3 месеца (повишена активност трансаминаза до 3 пута изнад нормалних вредно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ци су аниктерич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имптоми почетне фазе (нарочито умор) перзистир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д хепатитиса А и Е прогноза доб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тно оздраве за 6-9 месеци од почетк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хепатитиса Б и Ц одржавање активности трансаминаза дуже од 6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ој хронич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14264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Рецидивирајући о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чешће код хепатитиса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цидив клинички и биохемијски личи на акутну фазу болест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 вирус хепатитиса А се поново излучује столиц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змак између две фазе болести је 30-90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гноза је добра, оздрављење комплет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ислити на могућност удружене инфекције (другим хепатотропним вирусом) или хроничну форму хепатити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Фулминантни хеп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тежа клиничка форма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Синдром брзог и тешког оштећења функције јетре у претходно здравих особа, праћен енцефалопатијом, коагулопатијом и другим метаболичким поремећајима, уз могућност попуштања респираторне, кардијалне и реналне фун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улминантни хепатити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оследица масивне некрозе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сталост→акутни хепатитис Б (1%), коинфекција Д (2-5%), хепатитис А (0,1%), хепатитис Е код трудница у трећем триместру трудноће у ендемичним крајевима (2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ма времену протеклом од појаве жутице до појаве енцефалопатиј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иперакутни (мање од 7 д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тни (8-28 д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убакутни (29 дана до 12 недељ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имптоми из преиктеричне фазе се одржавају и чак појачавају у фази иктеруса (нарочито упорно повраћа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рзо напредовање иктеруса, смањење јетре и поспа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скоро по појави иктеруса (најчешће унутар 2 недеље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патичка енцефалопат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тадијум: еуфорија или депресија, блага конфузија, дизартрија, инверзија сна, флапинг тремор +/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тадијум: израженија поспаност, летрагија, непристојно понашање, флапинг тремор 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тадијум: конфузност, неповезан говор, психомоторни немир, успаван али се буди, извршава једноставне налоге, флапинг тремор 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тадију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ko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а, флапинг тремор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чки фетор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мирис трулог лишћа или свеже јетр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ипотензија, срчане аритмије, централни поремећај дисања, АРДС, хипоксија, хипогликемија, ацидо-базни и електролитни поремећај, асцитес, гастроинтестинална крварења, хепаторенални синдром, сепса (бактеријска и гљивична инфек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8380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АВ се успешно размножава у култури хуманих амнионских ћелија, хепатоцита мармозета и култури ћелија феталног бубрега резус мајмуна, афричког зеленог мајму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АВ у култури ћелија расте споро,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не даје цитопатогени ефека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 ослобађа се из инфициране ћелије без њене видљиве лезије (разлика од већине пикорна вируса, који дају јасан цитопатогени ефека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75960"/>
            <a:ext cx="7543800" cy="73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тадијум хепатичке енцефалопат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личина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важнији прогностички факто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генеза хепатичке енцефалопат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ство токсичних супстанци у крви (углавном азотних) које оштећена јетра није у стању да метаболиш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важниј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аст нивоа амонијак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моз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аст ГАБА-ергичке неуротрансмис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главни инхибиторни неуротрансмит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ивати метионина-меркаптани, лажни неуротрансмитери, серотонин ит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ална инхибиција и хепатичк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цефалопат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мпликације (ретке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енингоенцефа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лирадикулонеу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лазна хипоплазија гранулоцитне л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пластична 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ромбоцитопен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молитичка 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тни панкре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утоимуни хепатитис тип 1 код генетски предиспонираних особа (хепатитис 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7617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тавља се на основу анамнезе, епидемиолошке анкете, физичког прегледа и лабораторијских нал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Лабораторијска дијагноза акутног хепатити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. Хематолошке 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ормалан или снижен број леукоцита са доминацијом лимфоцита у леукоцитарној форму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улминантни хепатити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леукоцитоза са полинуклеоз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Б. Биохемијске 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ерум глутаматоксалична трансаминаза (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СГОТ, АС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ум глутаматпирувична трансаминаза (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СГПТ, АЛТ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и више пу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ГП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Г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Хипербилурубинем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укупни и коњуговани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иктеричне форм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иктерични облици→нормалне вредности укупног билирубина (могуће повишење само коњугованог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терус→укупни билирубин преко 30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/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ина билирубинемије корелира са тежином болести→сем код холестазних фор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Жучне киселин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у серуму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на почетку боле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ипоалбуминем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тешки и дуготрајни облици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Продужено протромбинско вре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Бета- и гама-глобулини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инфекција и реакција РЕС-а)→смањена стабилност колоида плазме (позитивне тимолске проб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лфа фето протеин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 почетној фази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и пораст у тежим облицим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ољан прогностички знак у фулминантном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хепатитис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Урин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илирубин↑, уробилиноген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Ц. Серолошка дијагноза акутног хепатити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 IgM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 IgG↓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акутна ф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 IgM↓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 IgG↑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еконвалесц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екција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 IgA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столиц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болелo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 дијагностичка вредност, рутински се не кори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sAg+,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HBc IgM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на 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HBeAg-/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HBe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ар прогностички зн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BsAg &gt; 6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сe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BeAg &gt;10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дељ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хрониц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BV DNK &gt; 8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дe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V IgM, HBsAg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SA, Western blo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а теста за рутинску серолошку дијагнозу хепатитиса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42670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Times New Roman"/>
              </a:rPr>
              <a:t>A. </a:t>
            </a: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ана прилагођена апетиту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бегавати масну храну у јако иктеричних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бегавати конзервансе, адитиве и алкох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ежање у постељи у почетку болести (малаксало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Б. Симптоматск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травенски унос глукозе (5%, 10%)-анорексија, повраћ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ливитаминск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нтагони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Кортикостероид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се не примењују у лечењу ни једне форме акутног вирус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Витамин К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холестазни хепатитис и хепатитис са продуженим протромбинским време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олестирамин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холестазне форме акут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Софосбувир/Велпатасвир (</a:t>
            </a:r>
            <a:r>
              <a:rPr b="1" lang="sr-Latn-R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Epclusa®), </a:t>
            </a:r>
            <a:r>
              <a:rPr b="1" lang="sr-R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Глекапревир/Пибрентасвир (</a:t>
            </a:r>
            <a:r>
              <a:rPr b="1" lang="sr-Latn-R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Maviret®</a:t>
            </a:r>
            <a:r>
              <a:rPr b="1" lang="sr-Latn-R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едеља-акутни вирусни 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Тенофовир, ентекавир, ламивудин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фулминантни 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</a:rPr>
              <a:t>Лечење фулминантног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единица интезивне нег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Терапија хепатичке енцефалопат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стрикција уноса беланчевина (20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днев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актулоза (10-30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ml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3 пута днев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убоке лактулозне клиз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терилизација црев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Neomycin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Терапија едема моз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анитол 20% 1г/к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уросеми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Терапија хипогликем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нтинуирана инфузија 10% глукозе до 3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/24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Превенција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филактичка примена антибиотика (цефалоспорини 3. генерације) и антимико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Честе културе урина, крв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 спуту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Превенција и терапија крвар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локатори водоничне пумпе, и.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тамин 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вежа смрзнута плазм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Терапија хепатореналног синдр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модијали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нтинуирана артериовенска хемофилтр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Терапија респираторне инсуфициј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Терапија хипотенз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Е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ош није сврстан у одређену фамил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пликује се у цитоплазми хепат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лучује се путем жучи (велика колич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толицом се излучује мала количина вируса (разара се у цреви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ома осетљив на топлоту и замрза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7543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. Неспецифич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ма извору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ма путевима шир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екватна диспозиција фекалија, редовно прање руку, хигијенска дистрибуција воде и х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Б. Специфич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сивна имуниз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експозициона→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гативним особама које путују у хиперендемичне крајеве (0,02-0,06 мл гамаглобулина/кг тт и.м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штита 3-5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текпсозициона (0,02мл/кг тт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рве две недеље по експози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-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гативни укућани, пре свега де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ма угроженим у епидемијама не давати гама-глобулин јер се јављају сувише кас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а имунизација (вакцина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а атенуирана вакц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ртва инактивисана вакцина (0, 1, 6м-по 720 ЕЛИЗА јединица и.м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мбинантна вакцина (слабији ефека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У 90% вакцинисаних после две недеље од давања прве дозе постиже се заштитни ниво антит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</a:rPr>
              <a:t>Хепатитис 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специфична превенција као код хепатитиса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пецифична профилакса за сада не посто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</a:rPr>
              <a:t>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. Неспецифична 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ома отпоран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ништава га 180</a:t>
            </a:r>
            <a:r>
              <a:rPr b="1" lang="sr-C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трајању од 12 сати или сува стерилиз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ије потребна изол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ере личне и опште хигијен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ични прибор за бријање, прање зуба, шишање, тетовирање и акунпуктуру, једнократна примена игала и шприц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венција ширења хепатитиса Б у здравственим установ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ажљиво руковање заразним материјал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еспрекорна хигијена особља (пре свега чисте рук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аштитне рукавице мењати за сваког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к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HBs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оставити га за крај прогр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рилизација инструмената после интервенције (метални инструменти-сува стерилизациј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180</a:t>
            </a:r>
            <a:r>
              <a:rPr b="1" lang="sr-C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 12 с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струменти који се могу оштети грејањем (ендоскопи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етиленоксид, глутаралдехид или формалдехид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320" y="45684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олеснике са хроничним болестима бубрега вакцинисати против хепатитиса Б пре укључивања у хемодијализ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дравстевно особље које ради у одељењима за хемодијализу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вакцинисати против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тинско тестирање добровољних даваоца крви на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HBs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отреба кондома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сексуалном контак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Б. Специфична 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цина против хепатитиса Б (рекомбинант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ју се 3 дозе од 20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драсли), 10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деца)→0,1,6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штита→96% вакцинисаних, траје 10 и више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тивна+пасивна (вакцина+хепатитис Б имуни глобул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оворођенчад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БсАг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+ мај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бод на иглу контаминирану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БсАг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+ крвљ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ексуални контакт са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БсАг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+ особом без зашти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66ff99"/>
                </a:solidFill>
                <a:latin typeface="Times New Roman"/>
              </a:rPr>
              <a:t>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специфична профилакс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иста као код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 профилакса→вакцинација против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99"/>
                </a:solidFill>
                <a:latin typeface="Times New Roman"/>
              </a:rPr>
              <a:t>Хепатитис</a:t>
            </a:r>
            <a:r>
              <a:rPr b="1" i="1" lang="sr-Latn-CS" sz="24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99"/>
                </a:solidFill>
                <a:latin typeface="Times New Roman"/>
              </a:rPr>
              <a:t>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в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Хепатитис</a:t>
            </a:r>
            <a:r>
              <a:rPr b="1" i="1" lang="sr-Latn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 </a:t>
            </a:r>
            <a:r>
              <a:rPr b="1" i="1" lang="sr-R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в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06632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ХРОНИЧНИ ВИРУСНИ ХЕПАТИТИ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51818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Дефини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апаљење и некроза паренхима јетре, који трају дуже од 6 месеци а узроковани су примарно хепатотропним вирус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Б вирус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Ц вирус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C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Д (делта) вирус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итис Г вирус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G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боље проучен модел хроничног хепатитиса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елимично поз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азлоз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ограничен број врста (домаћина) које вирус инфици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немогућност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да се размножава у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in vitro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словима (у култур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ВИРУСИ КОЈИ СЕ ПРЕНОСЕ ПУТЕМ КРВИ (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HBV, HDV, HCV, HGV, TT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ЗАЈЕДНИЧКЕ КАРАКТЕРИСТИ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мају омота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штећују их и ремете жуч и детерџен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ати их перзистентна вир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зазивају хроничне болести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ицирани хепатоцити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BeAg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BcAg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MHC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I, I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токсични Т лимфоц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инфицирани хепатоцити→слаба екпресиј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HC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B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a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инфекције→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аст продукције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ндогеног интерфер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цит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 (субоптималан), специфичан, на класу 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граничен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тотоксични Т лимфоцитн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дговор на вирусне антиг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 (субоптималан), специфичан, на класу 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аничен одговор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агачких Т лимфоцит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нуклеокапсидне антигене (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c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сновни разлог развоја хрониц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довољна продукција ендогеног интерферона у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ној фази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90360" y="151920"/>
            <a:ext cx="7543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Патоанатомске карактерист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дређивање некроинфламаторне акт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активни хронични хепатитис (без пис-мил некроз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инимално активни хепатитис (ретке пис-мил некроз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мерено активни хепатитис (распрострањеније пис-мил некроз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ако активни хепатитис (јако изражене пис-мил некрозе и конфлуентне некроз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дређивање стадијум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ез фиброзе-стадијум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лага фиброза-стадијум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мерена фиброза-стадијум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ешка фиброза-стадијум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Цироза-стадијум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Untitled-6"/>
          <p:cNvPicPr/>
          <p:nvPr/>
        </p:nvPicPr>
        <p:blipFill>
          <a:blip r:embed="rId1"/>
          <a:stretch/>
        </p:blipFill>
        <p:spPr>
          <a:xfrm>
            <a:off x="10666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Untitled-2"/>
          <p:cNvPicPr/>
          <p:nvPr/>
        </p:nvPicPr>
        <p:blipFill>
          <a:blip r:embed="rId1"/>
          <a:stretch/>
        </p:blipFill>
        <p:spPr>
          <a:xfrm>
            <a:off x="990720" y="60948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Untitled-3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Ток инфекције и 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е егзацербације и фазе ремисиј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утни хепатитис 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у 5-10% случајева прелаз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хрониц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%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и хепатитис Ц→у 80-90% случајева прелаз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у хрониц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-20%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оза јет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7%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целуларн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ци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4"/>
          <p:cNvSpPr/>
          <p:nvPr/>
        </p:nvSpPr>
        <p:spPr>
          <a:xfrm flipH="1">
            <a:off x="2666880" y="4419720"/>
            <a:ext cx="13716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4419720" y="4419720"/>
            <a:ext cx="121896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Фаза егзацербациј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клиничка слика као у акутној фази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за ремис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без субјективних сметњи, нормалан објектив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75-90% болест протиче асимптоматски и случајно се откр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и симптоми: малаксалост, осећај притиска или туп бол под ДР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кални налаз→оскудан: аниктерични (сем у ретким погоршањима), хепатомегалија, ређе спленомега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10-25% болесника→болест има прогредијентнији ток (година дана након инфекције): хистолошки се верификује цироза јетре (и даље оскудна симптоматолог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ле неколико годин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изражени клнички знаци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пензоване цирозе јетр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патоспленомегалија, палмарни еритем, спајдер невуси, паротидно бубр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а декомпензација (асцитес, перитибијалн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ци, енцефалопат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оналне резерве јетре исцрпљ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 улази у терминалну фаз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компензација, енцефалопатија, крвављење, бактеријске инфекције→угрожавају живот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на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BV</a:t>
            </a:r>
            <a:r>
              <a:rPr b="1" i="1" lang="sr-C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DV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ронични делта хепатитис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озбиљнији п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 и исходу од других хроничних вирусних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и делта хепатитис→70-80% болесник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ја цирозу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% ових болесника има прогредијентан ток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року од две године развију цирозу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 се не разликује од других вирусних хеп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15192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ХЕПАТИТИС Б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ал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Јако отпоран у спољашњој среди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амил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Hepadna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6 генотипова, 9 подтип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Вирусна честица (Dane-ова партикул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пољашњи липопротеински омотач (главни део чин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sA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уклеокапси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адрж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cAg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e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еном вирус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V 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-за њега се ковалентно везана два ензима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DNK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полимераза и протеин киназ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лободне тубуларне или сферичне форме (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HBs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виш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Hep B virus"/>
          <p:cNvPicPr/>
          <p:nvPr/>
        </p:nvPicPr>
        <p:blipFill>
          <a:blip r:embed="rId3"/>
          <a:stretch/>
        </p:blipFill>
        <p:spPr>
          <a:xfrm>
            <a:off x="6840360" y="609480"/>
            <a:ext cx="2303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кстрахепатичке 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ембранопролиферативни гломерулонеф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сенцијална мешовита криоглобули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рфирија кутанеа тар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ика синд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уренов улкус рожњач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утоимуни тиреоид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лиартеритис но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пластична 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иокард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лирадикулонеу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анкреатити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Цироза 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ерминална инсуфицијенција јетрине ћелије (енцефалопатија, коагулопатије, инфекције итд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епатоцелуларни карци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оцио-епидемиолошка анкета (фактори риз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абораторијс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рвна слика и брзина седиментације (без битнијих проме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вишена активност серумских трансаминаза (АСТ, АЛТ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обично 2-5 пута изнад нормалних вредности (сем у фазама изразите егзацербације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90360" y="22860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иже вредности албумина, повишене вредности глобулин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теже оштећење синтетске функције јетре (терминална боле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жено протромбинско време (снижени фактори коагулације: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, V, V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лош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и 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sA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cIg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,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gM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фази репликaцијe можe би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eA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,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HBe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Ø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мутантне форме губе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eA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и хепатитис 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ti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CV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куп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и хепатитис 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sAg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,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HBcIgM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Ø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ti-HDV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купна 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ирусолош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еакција ланчане полимеризаци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PC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валитa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PCR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ивање присуства 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антитативн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CR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ивање броја копија вирусне НК у 1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у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отипизација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V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ивање генотипа 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ивање активност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мер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псија јет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патохистолошка верификациј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роинфламаторна актив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дијум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и хепатитис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гиловани интерферон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ози нуклеозида/нуклеот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циналн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кинск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R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табилан вирусолошки 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Имуномодулаторно дело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/Ts 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ва експресију молекула клас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MH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ва активност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ише сазревање цитотоксичних Т лимфоцита (преко реаранжмана Т ћелијског рецепто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нтипролиферативно дело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нижава ниво проколаген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птида (маркер фиброзе јетр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нижава повишен ниво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TGF beta (transforming growth factor beta)-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јачaвa синтезу кoлaгeн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Антивирусно дело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ктивација 2,5-олигоаденилат-синтет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ивација олигонуклеотид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ивација ћелијске рибонукле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зарање вирусн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RN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егиловани интерферон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а→180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но/12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Циљ 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хемијски: нормализација АЛ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олошки: недетектибилн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DNK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пад исп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U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ума;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шчезавање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sAg 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серума са или без сероконверзије у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HB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kod HBeAg+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шчезавање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 стварање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-HB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њење некроинфламаторног индекса за 2 или више, без погоршања фибр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1" descr="HEP-B-MOD-X-Slide-1"/>
          <p:cNvPicPr/>
          <p:nvPr/>
        </p:nvPicPr>
        <p:blipFill>
          <a:blip r:embed="rId1"/>
          <a:srcRect l="11667" t="14995" r="11667" b="21998"/>
          <a:stretch/>
        </p:blipFill>
        <p:spPr>
          <a:xfrm>
            <a:off x="1001880" y="2143080"/>
            <a:ext cx="7495920" cy="36673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Стабилна</a:t>
            </a:r>
            <a:r>
              <a:rPr b="1" lang="en-GB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имунолошка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контрола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је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кључни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корак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ка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губитку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HBsAg</a:t>
            </a:r>
            <a:r>
              <a:rPr b="1" lang="en-GB" sz="2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1447920" y="464832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ТЕРАПИЈ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768840" y="2978280"/>
            <a:ext cx="202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СТАБИЛНА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ИМУНОЛОШКА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КОНТРОЛ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295280" y="5381640"/>
            <a:ext cx="181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Пад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нивоа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HBsA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BV DNA </a:t>
            </a: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супресиј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WordArt 12" descr=""/>
          <p:cNvPicPr/>
          <p:nvPr/>
        </p:nvPicPr>
        <p:blipFill>
          <a:blip r:embed="rId2"/>
          <a:stretch/>
        </p:blipFill>
        <p:spPr>
          <a:xfrm>
            <a:off x="1616040" y="3279600"/>
            <a:ext cx="2054160" cy="15177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8"/>
          <p:cNvSpPr/>
          <p:nvPr/>
        </p:nvSpPr>
        <p:spPr>
          <a:xfrm>
            <a:off x="3286080" y="4300560"/>
            <a:ext cx="2857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НАКОН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ТЕРАПИЈЕ</a:t>
            </a:r>
            <a:br>
              <a:rPr sz="1200"/>
            </a:b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ХБеАг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сероконверзиј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HBeAg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(+)</a:t>
            </a:r>
            <a:br>
              <a:rPr sz="1200"/>
            </a:b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i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BV DNA ≤</a:t>
            </a:r>
            <a:r>
              <a:rPr b="1" lang="sr-Latn-RS" sz="1200" spc="-1" strike="noStrike">
                <a:solidFill>
                  <a:srgbClr val="ffffff"/>
                </a:solidFill>
                <a:latin typeface="Tahoma"/>
              </a:rPr>
              <a:t>2000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IU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mL</a:t>
            </a:r>
            <a:br>
              <a:rPr sz="1200"/>
            </a:b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HBeAg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(-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2931840" y="6306120"/>
            <a:ext cx="591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新細明體"/>
              </a:rPr>
              <a:t>1. Perrillo et al. Hepatology 2006; 2. EASL guidelines 2009;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新細明體"/>
              </a:rPr>
              <a:t>3. van Zonneveld et al. Hepatology 2004; 4. Marcellin et al. APASL 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1" descr="HEP-B-MOD-X-Slide-1"/>
          <p:cNvPicPr/>
          <p:nvPr/>
        </p:nvPicPr>
        <p:blipFill>
          <a:blip r:embed="rId1"/>
          <a:srcRect l="11667" t="14995" r="11667" b="21998"/>
          <a:stretch/>
        </p:blipFill>
        <p:spPr>
          <a:xfrm>
            <a:off x="1295280" y="2209680"/>
            <a:ext cx="7496280" cy="3667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8"/>
          <p:cNvSpPr/>
          <p:nvPr/>
        </p:nvSpPr>
        <p:spPr>
          <a:xfrm>
            <a:off x="5911920" y="226548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ГУБИТАК</a:t>
            </a:r>
            <a:r>
              <a:rPr b="1" lang="sr-Latn-CS" sz="1800" spc="-1" strike="noStrike">
                <a:solidFill>
                  <a:srgbClr val="004b8d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BsAg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6172200" y="3200400"/>
            <a:ext cx="264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0000"/>
                </a:solidFill>
                <a:latin typeface="Tahoma"/>
              </a:rPr>
              <a:t>Редукује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HCC &amp; </a:t>
            </a:r>
            <a:r>
              <a:rPr b="1" lang="sr-RS" sz="1600" spc="-1" strike="noStrike">
                <a:solidFill>
                  <a:srgbClr val="ff0000"/>
                </a:solidFill>
                <a:latin typeface="Tahoma"/>
              </a:rPr>
              <a:t>цирозу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;</a:t>
            </a:r>
            <a:br>
              <a:rPr sz="1600"/>
            </a:br>
            <a:r>
              <a:rPr b="1" lang="sr-RS" sz="1600" spc="-1" strike="noStrike">
                <a:solidFill>
                  <a:srgbClr val="ff0000"/>
                </a:solidFill>
                <a:latin typeface="Tahoma"/>
              </a:rPr>
              <a:t>повећава</a:t>
            </a:r>
            <a:r>
              <a:rPr b="1" lang="sr-Latn-CS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sr-RS" sz="1600" spc="-1" strike="noStrike">
                <a:solidFill>
                  <a:srgbClr val="ff0000"/>
                </a:solidFill>
                <a:latin typeface="Tahoma"/>
              </a:rPr>
              <a:t>преживљавањ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869560" y="6306120"/>
            <a:ext cx="605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1. Perrillo et al. Hepatology 2006; 2. EASL guidelines 2009;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3. van Zonneveld et al. Hepatology 2004; 4. Marcellin et al. APASL 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3809880" y="2895480"/>
            <a:ext cx="202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СТАБИЛНА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ИМУНОЛОШКА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КОНТРОЛ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3505320" y="4267080"/>
            <a:ext cx="2857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НАКОН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ТЕРАПИЈЕ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BeAg 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сероконверзиј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ko</a:t>
            </a: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HBeAg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(+)</a:t>
            </a:r>
            <a:br>
              <a:rPr sz="1200"/>
            </a:b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i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BV DNA ≤</a:t>
            </a:r>
            <a:r>
              <a:rPr b="1" lang="sr-Latn-RS" sz="1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00 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IU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mL</a:t>
            </a:r>
            <a:br>
              <a:rPr sz="1200"/>
            </a:br>
            <a:r>
              <a:rPr b="1" lang="sr-RS" sz="12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HBeAg</a:t>
            </a:r>
            <a:r>
              <a:rPr b="1" lang="sr-Latn-CS" sz="1200" spc="-1" strike="noStrike">
                <a:solidFill>
                  <a:srgbClr val="ffffff"/>
                </a:solidFill>
                <a:latin typeface="Tahoma"/>
              </a:rPr>
              <a:t>(-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1393560" y="5486400"/>
            <a:ext cx="195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Пад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нивоа</a:t>
            </a:r>
            <a:r>
              <a:rPr b="1" lang="sr-Latn-C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BsA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BV DNA </a:t>
            </a:r>
            <a:r>
              <a:rPr b="1" lang="sr-RS" sz="1400" spc="-1" strike="noStrike">
                <a:solidFill>
                  <a:srgbClr val="ffffff"/>
                </a:solidFill>
                <a:latin typeface="Tahoma"/>
              </a:rPr>
              <a:t>супресиј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1676520" y="4648320"/>
            <a:ext cx="14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sr-RS" sz="1800" spc="-1" strike="noStrike">
                <a:solidFill>
                  <a:srgbClr val="ffffff"/>
                </a:solidFill>
                <a:latin typeface="Tahoma"/>
              </a:rPr>
              <a:t>ТЕРАПИЈ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WordArt 12"/>
          <p:cNvSpPr txBox="1"/>
          <p:nvPr/>
        </p:nvSpPr>
        <p:spPr>
          <a:xfrm rot="19760400">
            <a:off x="1709280" y="3708000"/>
            <a:ext cx="2084400" cy="73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593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66"/>
                </a:solidFill>
                <a:latin typeface="+mj-lt"/>
              </a:rPr>
              <a:t>Dvostruki način delovanja</a:t>
            </a:r>
            <a:endParaRPr b="1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66"/>
              </a:solidFill>
              <a:latin typeface="+mj-lt"/>
              <a:ea typeface="+mj-lt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539640" y="0"/>
            <a:ext cx="813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Стабилна</a:t>
            </a:r>
            <a:r>
              <a:rPr b="1" lang="en-GB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имунолошка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контрола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је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кључни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корак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ка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губитку</a:t>
            </a:r>
            <a:r>
              <a:rPr b="1" lang="sr-Latn-C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HBsA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налози нулеоз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Тенофовир, ентекавир, (ламивуд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упримира репликацију ХБВ али не може да ерадицира инфек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ање терапије (???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eAg+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-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есеци (до 2 год. ???) по успостављању сероконверзиј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/antiHBe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негативизацији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eAg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стварања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-H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eA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s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нофовир, ентекавир (препорука)</a:t>
            </a:r>
            <a:r>
              <a:rPr b="1" lang="sr-Latn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ff99"/>
                </a:solidFill>
                <a:latin typeface="Times New Roman"/>
              </a:rPr>
              <a:t>Варијанте хепатитис Б 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оком инфекциј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промене у геному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варање вирусних варијанти (мутанти)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зликују се од дивљег соја по антигеним карактеристикама и патоге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 мутантних фор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вољно ефикасна елиминација имунским механизм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њен ефекат антивирусне 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о постављање дијагн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њена ефикасност вакц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Razmotriti prekid terapije samo..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HBeAg (+) : nakon postizanja serokonverzije u anti HBeAt i nedetektabilnom HBV DNK ( 6-12 meseci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HBeAg (-) :  ukoliko  postignu gubitak HBsAg!!!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Ovo je redak događaj- terapija dugotrajna,   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RS" sz="2600" spc="-1" strike="noStrike">
                <a:solidFill>
                  <a:srgbClr val="ffffff"/>
                </a:solidFill>
                <a:latin typeface="Calibri"/>
              </a:rPr>
              <a:t>verovatno doživotn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European Association for the Study of the Liver. EASL 2017 Clinical 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Practice Guidelines on the management of hepatitis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B virus infection. J 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RS" sz="1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Hepatol (2017), http://dx.doi.org/10.1016/j.jhep.2017.03.021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alibri"/>
                <a:ea typeface="Calibri"/>
              </a:rPr>
              <a:t>Hroni</a:t>
            </a:r>
            <a:r>
              <a:rPr b="1" lang="sr-Latn-RS" sz="2800" spc="-1" strike="noStrike">
                <a:solidFill>
                  <a:srgbClr val="eaeaea"/>
                </a:solidFill>
                <a:latin typeface="Calibri"/>
                <a:ea typeface="Calibri"/>
              </a:rPr>
              <a:t>č</a:t>
            </a:r>
            <a:r>
              <a:rPr b="1" lang="en-US" sz="2800" spc="-1" strike="noStrike">
                <a:solidFill>
                  <a:srgbClr val="eaeaea"/>
                </a:solidFill>
                <a:latin typeface="Calibri"/>
                <a:ea typeface="Calibri"/>
              </a:rPr>
              <a:t>ni hepatitis C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Calibri"/>
                <a:ea typeface="Calibri"/>
              </a:rPr>
              <a:t>Svetska</a:t>
            </a:r>
            <a:r>
              <a:rPr b="1" lang="sr-Latn-RS" sz="2800" spc="-1" strike="noStrike">
                <a:solidFill>
                  <a:srgbClr val="eaeaea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alibri"/>
                <a:ea typeface="Calibri"/>
              </a:rPr>
              <a:t>r</a:t>
            </a:r>
            <a:r>
              <a:rPr b="1" lang="sr-RS" sz="2800" spc="-1" strike="noStrike">
                <a:solidFill>
                  <a:srgbClr val="eaeaea"/>
                </a:solidFill>
                <a:latin typeface="Calibri"/>
                <a:ea typeface="Calibri"/>
              </a:rPr>
              <a:t>еа</a:t>
            </a:r>
            <a:r>
              <a:rPr b="1" lang="en-US" sz="2800" spc="-1" strike="noStrike">
                <a:solidFill>
                  <a:srgbClr val="eaeaea"/>
                </a:solidFill>
                <a:latin typeface="Calibri"/>
                <a:ea typeface="Calibri"/>
              </a:rPr>
              <a:t>lno</a:t>
            </a:r>
            <a:r>
              <a:rPr b="1" lang="sr-RS" sz="2800" spc="-1" strike="noStrike">
                <a:solidFill>
                  <a:srgbClr val="eaeaea"/>
                </a:solidFill>
                <a:latin typeface="Calibri"/>
                <a:ea typeface="Calibri"/>
              </a:rPr>
              <a:t>ст</a:t>
            </a:r>
            <a:r>
              <a:rPr b="1" lang="sr-Latn-RS" sz="2800" spc="-1" strike="noStrike">
                <a:solidFill>
                  <a:srgbClr val="eaeaea"/>
                </a:solidFill>
                <a:latin typeface="Calibri"/>
                <a:ea typeface="Calibri"/>
              </a:rPr>
              <a:t> (EASL, 2020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Terapijske opci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osbuvi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(400mg)/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l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patasvi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(100mg) 1x1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-Epclusa®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oprevi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(100mg)/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b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asvi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(50mg) 1x1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-Zepatier®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e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caprevi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(100mg)/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b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rentasvi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(40mg) 1x3 (sa hranom)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-Maviret®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osbuvi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(400mg)/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l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patasvi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(100mg)/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x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ilaprevi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(100mg) 1x1 (sa hranom)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-Vosevi®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sr-Latn-RS" sz="2400" spc="-1" strike="noStrike">
                <a:solidFill>
                  <a:srgbClr val="ff0000"/>
                </a:solidFill>
                <a:latin typeface="Calibri"/>
                <a:ea typeface="Calibri"/>
              </a:rPr>
              <a:t>SVR: 95-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sr-Latn-RS" sz="2400" spc="-1" strike="noStrike">
                <a:solidFill>
                  <a:srgbClr val="ff0000"/>
                </a:solidFill>
                <a:latin typeface="Calibri"/>
                <a:ea typeface="Calibri"/>
              </a:rPr>
              <a:t>Minimalno  neželjenih događa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09480" y="4952880"/>
            <a:ext cx="4114800" cy="9144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-3812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eaeaea"/>
                </a:solidFill>
                <a:latin typeface="Tahoma"/>
              </a:rPr>
              <a:t>Svetska realnost (EASL, 2020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066680" y="685800"/>
          <a:ext cx="7543800" cy="6066000"/>
        </p:xfrm>
        <a:graphic>
          <a:graphicData uri="http://schemas.openxmlformats.org/drawingml/2006/table">
            <a:tbl>
              <a:tblPr/>
              <a:tblGrid>
                <a:gridCol w="1497240"/>
                <a:gridCol w="777600"/>
                <a:gridCol w="1497240"/>
                <a:gridCol w="1496880"/>
                <a:gridCol w="598680"/>
                <a:gridCol w="598320"/>
                <a:gridCol w="538200"/>
                <a:gridCol w="539640"/>
              </a:tblGrid>
              <a:tr h="6570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ip lečenj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Genot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tatus ciroz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rethodna terapij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OF/V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GLE/PI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OF/VEL/VO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ELB/GZ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rowSpan="9"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azirano na određivanju genotipa/subtip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enotip 1a, 1b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, 4, 5 and 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ez ciroz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leče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 n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3"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 n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4"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4"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 n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amo Genotip 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3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uspešno leče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Komp. ciroz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leče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uspešno leče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 n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enotip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ez ciroz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leče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 n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 n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uspešno leče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 n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Komp. ciroz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leče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 ned sa Rb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-12 nedᶧ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 ned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1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uspešno leče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 n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ubtip 1l, 4r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b, 3g, 6u, 6v ili drug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ubtipovi, prirodno sa jednom ili više NS5A RAS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ez ciroz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leče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pozna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 rowSpan="4"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pozna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 rowSpan="4"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 n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4"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32560">
                <a:tc rowSpan="3"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uspešno leče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Komp. ciroz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leče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Neuspešno lečen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Calibri"/>
                <a:ea typeface="Calibri"/>
              </a:rPr>
              <a:t>Пангенотипска</a:t>
            </a:r>
            <a:r>
              <a:rPr b="1" lang="sr-Latn-RS" sz="2800" spc="-1" strike="noStrike">
                <a:solidFill>
                  <a:srgbClr val="eaeaea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Calibri"/>
                <a:ea typeface="Calibri"/>
              </a:rPr>
              <a:t>терапија</a:t>
            </a:r>
            <a:r>
              <a:rPr b="1" lang="sr-Latn-RS" sz="2800" spc="-1" strike="noStrike">
                <a:solidFill>
                  <a:srgbClr val="eaeaea"/>
                </a:solidFill>
                <a:latin typeface="Calibri"/>
                <a:ea typeface="Calibri"/>
              </a:rPr>
              <a:t> (</a:t>
            </a:r>
            <a:r>
              <a:rPr b="1" lang="sr-RS" sz="2800" spc="-1" strike="noStrike">
                <a:solidFill>
                  <a:srgbClr val="eaeaea"/>
                </a:solidFill>
                <a:latin typeface="Calibri"/>
                <a:ea typeface="Calibri"/>
              </a:rPr>
              <a:t>терапија</a:t>
            </a:r>
            <a:r>
              <a:rPr b="1" lang="sr-Latn-RS" sz="2800" spc="-1" strike="noStrike">
                <a:solidFill>
                  <a:srgbClr val="eaeaea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Calibri"/>
                <a:ea typeface="Calibri"/>
              </a:rPr>
              <a:t>будућности</a:t>
            </a:r>
            <a:r>
              <a:rPr b="1" lang="sr-Latn-RS" sz="2800" spc="-1" strike="noStrike">
                <a:solidFill>
                  <a:srgbClr val="eaeaea"/>
                </a:solidFill>
                <a:latin typeface="Calibri"/>
                <a:ea typeface="Calibri"/>
              </a:rPr>
              <a:t>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42" name="Content Placeholder 3" descr=""/>
          <p:cNvPicPr/>
          <p:nvPr/>
        </p:nvPicPr>
        <p:blipFill>
          <a:blip r:embed="rId1"/>
          <a:stretch/>
        </p:blipFill>
        <p:spPr>
          <a:xfrm>
            <a:off x="1127160" y="2176560"/>
            <a:ext cx="74311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0:49:32Z</dcterms:created>
  <dc:creator>MF</dc:creator>
  <dc:description/>
  <dc:language>en-US</dc:language>
  <cp:lastModifiedBy>klinika</cp:lastModifiedBy>
  <dcterms:modified xsi:type="dcterms:W3CDTF">2023-10-30T17:55:46Z</dcterms:modified>
  <cp:revision>438</cp:revision>
  <dc:subject/>
  <dc:title>Slide 1</dc:title>
</cp:coreProperties>
</file>